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A9E-9417-46B5-BF3E-9841662E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flybase controlled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tment - groups of cells that don’t m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pato relational terms - used for annotations not for the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005-A75F-4D41-83D8-0E57318E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F33-224C-4FBA-A4E6-4D97E2EF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DA8-36A4-4DAB-8F5F-E65FA433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15F-1478-417E-821C-086A53CB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19A-3AC1-434F-A469-8F89188D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749-BC3C-40D5-8D74-FA4746B8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A9A-F260-4F38-BF68-E18EEB9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93B-7F5D-4B23-9847-F8D479A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B8E-7202-4555-90CD-858EECE4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8EC-848E-4F28-98CF-9337DC6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906-E24B-438C-8F4F-4FBE8BF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F68-4691-464A-85D9-B1E0DD8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AEC-5D8C-41C0-ADC9-E377294EA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ttached_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oundary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a fide vs. fiat - when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6765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anatomical qual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terior margin of supraorbital b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SPO:anterior marg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TAO:supraorbit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n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modifiers for quality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ontal bone laterally compress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: front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TO:compress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as_ax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SPO:left/right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t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ors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xim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rro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tral_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cinity_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104920"/>
            <a:ext cx="42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relations and PATO spatial relational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_to: fia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752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xon tra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uro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520" y="2786040"/>
            <a:ext cx="4755960" cy="26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anatomical relation which holds between each anatomical structure of type A and some anatomical structure of type B such that each structure shares some part of its bona fide anatomical surface with that of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y’s definition (from obo-discuss): x is connected_to y if x and y share a fiat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hich holds between each anatomical entity of type A and some anatomical entity of type B such that there is no bona fide boundary between their contiguous constitutional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5400" y="1860480"/>
            <a:ext cx="4797720" cy="309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0520" y="62485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46483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5562720" cy="3057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+ bon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called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a fide boundar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4797360" cy="309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72240" y="1752480"/>
            <a:ext cx="2725560" cy="467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7680" y="59817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5480" y="60292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: top level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: top level di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grad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harac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terior margin of lateral ethmoi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0) straight, parallel to anterior edge of orbitosphenoid &amp; abruptly angled at midline; (1) broadly curved in ventral view, forming convex a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19520" y="3048120"/>
          <a:ext cx="2509560" cy="29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8120"/>
                    <a:ext cx="25095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9:11Z</dcterms:created>
  <dc:creator>Wasila Dahdul</dc:creator>
  <dc:description/>
  <dc:language>en-US</dc:language>
  <cp:lastModifiedBy>Wasila Dahdul</cp:lastModifiedBy>
  <dcterms:modified xsi:type="dcterms:W3CDTF">2008-05-19T18:55:25Z</dcterms:modified>
  <cp:revision>92</cp:revision>
  <dc:subject/>
  <dc:title>PowerPoint Presentation</dc:title>
</cp:coreProperties>
</file>